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3FC3-1BB7-41CB-A894-68E1E78C4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EE84-E5DC-4126-8389-E2C8C246C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02C9-C1C5-4ECD-9693-63E46334C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4979-44B3-4318-AEA6-104AAE04D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7D43-638A-4C33-B482-D82F0D4B6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48D3-3661-47E7-B3D4-88400382B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988D-1CC1-457D-8CA3-DAF42422C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D020-77F3-483B-821C-1C6F36988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197F-7803-43BA-A2B3-59B5A92C5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0827-65E0-481A-B439-60E984125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817E-CA9C-4FB1-ABBD-C30D07C69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4470-5C1F-4154-9332-7437F46A9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4AA3-2F07-4548-914A-4263D0AAD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3DF8-21ED-4338-B17C-F51670BB6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65D7-DEB6-4CBE-91A5-2D0FA7ACC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7B77-3C40-4279-869B-9BF77AFEA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75DA-28B4-4567-B03A-561A6EE6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ED57-37C3-41F9-8294-7EF29FB1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C0AF-659F-40FE-A1E2-93D457AD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8C37-E4A1-4666-A361-B09F17D2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850F-2029-46AC-83B4-AB67E3C9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3CC2-318A-406A-A7BD-475DFDEC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16E1-7F0F-40AD-8C61-0D68F907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B5CE-B2E1-45E8-B017-8888AD3D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37C3-443A-48E4-A540-D2C3D323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304C-ACD7-421C-B99E-675F7DC0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6A57-75A2-4CD1-B857-ED54BB3F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DDF7-01D0-4470-BEF5-11042EE3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B3A1-C6B9-4BF9-A128-D071F40FA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images.google.com/imgres?imgurl=http://www.galleryone.com/images/kouba/kouba%2520-%2520nine%2520big%2520blacks.jpg&amp;imgrefurl=http://www.galleryone.com/kouba_prints.htm&amp;h=403&amp;w=600&amp;sz=24&amp;tbnid=OT33VUEIDK8J:&amp;tbnh=89&amp;tbnw=133&amp;hl=en&amp;start=44&amp;prev=/images%3Fq%3Dnine%26start%3D40%26svnum%3D10%26hl%3Den%26lr%3D%26sa%3DN" TargetMode="External"/><Relationship Id="rId4" Type="http://schemas.openxmlformats.org/officeDocument/2006/relationships/image" Target="../media/image11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www.ctio.noao.edu/~marcel/personal/OZ1/dscf1970_key.jpg" TargetMode="External"/><Relationship Id="rId4" Type="http://schemas.openxmlformats.org/officeDocument/2006/relationships/image" Target="../media/image12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slide" Target="slide2.xml"/><Relationship Id="rId4" Type="http://schemas.openxmlformats.org/officeDocument/2006/relationships/slide" Target="slide13.xml"/><Relationship Id="rId5" Type="http://schemas.openxmlformats.org/officeDocument/2006/relationships/slide" Target="slide12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www.typingmaster.com/general/java/bubbleapplet.asp?keys=0123456789%2F*-%2B&amp;duration=1&amp;Submit=Play+Game" TargetMode="External"/><Relationship Id="rId4" Type="http://schemas.openxmlformats.org/officeDocument/2006/relationships/image" Target="../media/image13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slide" Target="slide2.xml"/><Relationship Id="rId4" Type="http://schemas.openxmlformats.org/officeDocument/2006/relationships/slide" Target="slide13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slide" Target="slide13.xml"/><Relationship Id="rId6" Type="http://schemas.openxmlformats.org/officeDocument/2006/relationships/slide" Target="slide12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images.google.com/imgres?imgurl=http://pinker.wjh.harvard.edu/photos/santa_barbara_california/images/two%2520hawks.jpg&amp;imgrefurl=http://pinker.wjh.harvard.edu/photos/santa_barbara_california/images/&amp;h=600&amp;w=926&amp;sz=27&amp;tbnid=YUt3rqrUDecJ:&amp;tbnh=94&amp;tbnw=146&amp;hl=en&amp;start=7&amp;prev=/images%3Fq%3Dtwo%26svnum%3D10%26hl%3Den%26lr%3D" TargetMode="External"/><Relationship Id="rId4" Type="http://schemas.openxmlformats.org/officeDocument/2006/relationships/image" Target="../media/image4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images.google.com/imgres?imgurl=http://www.artworksmontana.com/pages/Waddellpage/images/Chickadee%2520Three.jpg&amp;imgrefurl=http://www.artworksmontana.com/pages/Waddellpage/images/&amp;h=489&amp;w=500&amp;sz=43&amp;tbnid=rXyU6oaP274J:&amp;tbnh=124&amp;tbnw=127&amp;hl=en&amp;start=6&amp;prev=/images%3Fq%3Dthree%26svnum%3D10%26hl%3Den%26lr%3D" TargetMode="External"/><Relationship Id="rId4" Type="http://schemas.openxmlformats.org/officeDocument/2006/relationships/image" Target="../media/image5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images.google.com/imgres?imgurl=http://www.bluebirdnut.com/Four%2520eggs%25205-30copy.jpg&amp;imgrefurl=http://www.bluebirdnut.com/2003%2520Season.htm&amp;h=437&amp;w=576&amp;sz=68&amp;tbnid=j12fG15w66cJ:&amp;tbnh=100&amp;tbnw=132&amp;hl=en&amp;start=25&amp;prev=/images%3Fq%3Dfour%26start%3D20%26svnum%3D10%26hl%3Den%26lr%3D%26sa%3DN" TargetMode="External"/><Relationship Id="rId4" Type="http://schemas.openxmlformats.org/officeDocument/2006/relationships/image" Target="../media/image6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images.google.com/imgres?imgurl=http://birdsofsanibel.free.fr/images/20040411/White%2520Pelican%2520Five.jpg&amp;imgrefurl=http://birdsofsanibel.free.fr/new_page_4.htm&amp;h=400&amp;w=600&amp;sz=171&amp;tbnid=e0RfCvFJCroJ:&amp;tbnh=88&amp;tbnw=133&amp;hl=en&amp;start=21&amp;prev=/images%3Fq%3Dfive%26start%3D20%26svnum%3D10%26hl%3Den%26lr%3D%26sa%3DN" TargetMode="External"/><Relationship Id="rId4" Type="http://schemas.openxmlformats.org/officeDocument/2006/relationships/image" Target="../media/image7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images.google.com/imgres?imgurl=http://www.lincsbirdclub.co.uk/image_4/barnacles_group_2.jpg&amp;imgrefurl=http://www.lincsbirdclub.co.uk/rare_birds/barnacle_geese.htm&amp;h=336&amp;w=567&amp;sz=39&amp;tbnid=IzQBgOg2Q0YJ:&amp;tbnh=77&amp;tbnw=131&amp;hl=en&amp;start=8&amp;prev=/images%3Fq%3Dsix%2Bbirds%26svnum%3D10%26hl%3Den%26lr%3D" TargetMode="External"/><Relationship Id="rId4" Type="http://schemas.openxmlformats.org/officeDocument/2006/relationships/image" Target="../media/image8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images.google.com/imgres?imgurl=http://www.pathla.com.au/img/birds-seven.jpg&amp;imgrefurl=http://www.pathla.com.au/&amp;h=264&amp;w=426&amp;sz=7&amp;tbnid=3L2oFvP7vjMJ:&amp;tbnh=75&amp;tbnw=122&amp;hl=en&amp;start=1&amp;prev=/images%3Fq%3Dseven%2Bbirds%26svnum%3D10%26hl%3Den%26lr%3D" TargetMode="External"/><Relationship Id="rId4" Type="http://schemas.openxmlformats.org/officeDocument/2006/relationships/image" Target="../media/image9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images.google.com/imgres?imgurl=http://www.ee.surrey.ac.uk/Personal/D.Jefferies/bird/eight-eggs-close-box2-040430.jpg&amp;imgrefurl=http://www.ee.surrey.ac.uk/Personal/D.Jefferies/bird/activity2004.html&amp;h=914&amp;w=1133&amp;sz=166&amp;tbnid=SajA2tqknjEJ:&amp;tbnh=121&amp;tbnw=150&amp;hl=en&amp;start=14&amp;prev=/images%3Fq%3Deight%26svnum%3D10%26hl%3Den%26lr%3D" TargetMode="External"/><Relationship Id="rId4" Type="http://schemas.openxmlformats.org/officeDocument/2006/relationships/image" Target="../media/image10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un with Number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Kindergarten Mathematics  Web Qu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halk"/>
          <p:cNvPicPr/>
          <p:nvPr/>
        </p:nvPicPr>
        <p:blipFill>
          <a:blip r:embed="rId1"/>
          <a:stretch/>
        </p:blipFill>
        <p:spPr>
          <a:xfrm>
            <a:off x="3429000" y="4114800"/>
            <a:ext cx="19051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WordArt 8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9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0" name="Picture 11" descr="kouba%2520-%2520nine%2520big%2520black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4646520"/>
            <a:ext cx="1724040" cy="1154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2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WordArt 8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0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8" name="Picture 11" descr="dscf1970_ke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4267080"/>
            <a:ext cx="2162160" cy="1617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2"/>
          <p:cNvSpPr/>
          <p:nvPr/>
        </p:nvSpPr>
        <p:spPr>
          <a:xfrm>
            <a:off x="30492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’m Counting on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51055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2514600" y="1447920"/>
            <a:ext cx="99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3657600" y="15238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ing Your Numb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WordArt 9"/>
          <p:cNvSpPr txBox="1"/>
          <p:nvPr/>
        </p:nvSpPr>
        <p:spPr>
          <a:xfrm>
            <a:off x="2895480" y="2590920"/>
            <a:ext cx="609840" cy="85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WordArt 10"/>
          <p:cNvSpPr txBox="1"/>
          <p:nvPr/>
        </p:nvSpPr>
        <p:spPr>
          <a:xfrm>
            <a:off x="2743200" y="4038480"/>
            <a:ext cx="762120" cy="7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3809880" y="27432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actice Makes Perf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3733920" y="41148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aring What You Kn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ask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ng Your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on the numbers be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on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 each number as you se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Picture 10" descr="lil%2520number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3886200"/>
            <a:ext cx="1324080" cy="10857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1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ask</a:t>
            </a:r>
            <a:br>
              <a:rPr sz="16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ractice Makes Per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each of the numbers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the game for each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4267080"/>
            <a:ext cx="857160" cy="10288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WordArt 7"/>
          <p:cNvSpPr txBox="1"/>
          <p:nvPr/>
        </p:nvSpPr>
        <p:spPr>
          <a:xfrm>
            <a:off x="3048120" y="5410080"/>
            <a:ext cx="990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" name="WordArt 8"/>
          <p:cNvSpPr txBox="1"/>
          <p:nvPr/>
        </p:nvSpPr>
        <p:spPr>
          <a:xfrm>
            <a:off x="6477120" y="5486400"/>
            <a:ext cx="990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WordArt 9"/>
          <p:cNvSpPr txBox="1"/>
          <p:nvPr/>
        </p:nvSpPr>
        <p:spPr>
          <a:xfrm>
            <a:off x="7238880" y="4343400"/>
            <a:ext cx="99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WordArt 10"/>
          <p:cNvSpPr txBox="1"/>
          <p:nvPr/>
        </p:nvSpPr>
        <p:spPr>
          <a:xfrm>
            <a:off x="2819520" y="4114800"/>
            <a:ext cx="990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WordArt 11"/>
          <p:cNvSpPr txBox="1"/>
          <p:nvPr/>
        </p:nvSpPr>
        <p:spPr>
          <a:xfrm>
            <a:off x="4343400" y="4191120"/>
            <a:ext cx="99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5" name="WordArt 12"/>
          <p:cNvSpPr txBox="1"/>
          <p:nvPr/>
        </p:nvSpPr>
        <p:spPr>
          <a:xfrm>
            <a:off x="5867280" y="4038480"/>
            <a:ext cx="99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WordArt 13"/>
          <p:cNvSpPr txBox="1"/>
          <p:nvPr/>
        </p:nvSpPr>
        <p:spPr>
          <a:xfrm>
            <a:off x="4724280" y="5715000"/>
            <a:ext cx="99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6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457200" y="457200"/>
            <a:ext cx="1600200" cy="33858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7057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valuation and Conclusion</a:t>
            </a:r>
            <a:br>
              <a:rPr sz="1400"/>
            </a:br>
            <a:br>
              <a:rPr sz="1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ring What You Know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are what you have learned, you will now make a number 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age of your book should have a number from one to 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age should have a picture that illustrates th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share your books with the class and with your family on family 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jumping chick"/>
          <p:cNvPicPr/>
          <p:nvPr/>
        </p:nvPicPr>
        <p:blipFill>
          <a:blip r:embed="rId1"/>
          <a:stretch/>
        </p:blipFill>
        <p:spPr>
          <a:xfrm>
            <a:off x="533520" y="41911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380880" y="457200"/>
            <a:ext cx="1600200" cy="33858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55" name="WordArt 9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Picture 11" descr="VGKILAJHUIAJDGX"/>
          <p:cNvPicPr/>
          <p:nvPr/>
        </p:nvPicPr>
        <p:blipFill>
          <a:blip r:embed="rId3"/>
          <a:stretch/>
        </p:blipFill>
        <p:spPr>
          <a:xfrm>
            <a:off x="4724280" y="4572000"/>
            <a:ext cx="2438640" cy="14065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228600" y="38088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0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9" descr="two%2520hawk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4343400"/>
            <a:ext cx="2152440" cy="1386000"/>
          </a:xfrm>
          <a:prstGeom prst="rect">
            <a:avLst/>
          </a:prstGeom>
          <a:ln w="0">
            <a:noFill/>
          </a:ln>
        </p:spPr>
      </p:pic>
      <p:sp>
        <p:nvSpPr>
          <p:cNvPr id="64" name="WordArt 12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WordArt 8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2" name="Picture 11" descr="Chickadee%2520Thre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4275000"/>
            <a:ext cx="1514520" cy="14781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2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WordArt 8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0" name="Picture 11" descr="Four%2520eggs%25205-30cop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4343400"/>
            <a:ext cx="1981080" cy="15001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2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WordArt 8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8" name="Picture 11" descr="White%2520Pelican%2520Fiv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4648320"/>
            <a:ext cx="1876320" cy="1241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2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WordArt 8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6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6" name="Picture 13" descr="barnacles_group_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4389480"/>
            <a:ext cx="2466720" cy="1449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4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WordArt 8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4" name="Picture 13" descr="birds-seve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4319640"/>
            <a:ext cx="2743200" cy="16873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4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WordArt 8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8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2" name="Picture 11" descr="eight-eggs-close-box2-04043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4343400"/>
            <a:ext cx="1885680" cy="1521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2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6:00:12Z</dcterms:created>
  <dc:creator>Perri Applegate</dc:creator>
  <dc:description/>
  <dc:language>en-US</dc:language>
  <cp:lastModifiedBy>Lorenz</cp:lastModifiedBy>
  <dcterms:modified xsi:type="dcterms:W3CDTF">2010-01-05T11:45:52Z</dcterms:modified>
  <cp:revision>9</cp:revision>
  <dc:subject/>
  <dc:title>Fun with Numbers A Kindergarten Mathematics  WebQuest</dc:title>
</cp:coreProperties>
</file>